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08A5-E077-461D-B313-C8D6DF4B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DA5B-6745-438E-B01B-7CAE8FFC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5B5E-86D3-4324-9BD5-0E673125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0680-4F52-4B9A-98D2-84E26CD2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C774-0A5C-4F08-8838-DB2849CF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08FF-99F7-4852-BCE2-83A77757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FFA7-9B94-49DB-92A6-2CD0DD8E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49BB-37EA-42C8-9AD9-87CE52DA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54F2-4E09-4F0E-AA6E-60DCDC5B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8647-2793-4388-8CBF-BF2C48A0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199F-9BC3-4251-AE77-6ABB4870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AF86-AED1-4017-926C-C271FC18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ff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16A2-98C1-4AFF-92B6-ACD119537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ff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19920" y="4495680"/>
            <a:ext cx="2971800" cy="1065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sp>
        <p:nvSpPr>
          <p:cNvPr id="45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1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56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59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you count to t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15200" y="44956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200400" y="1981080"/>
            <a:ext cx="3076560" cy="4762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" action="ppaction://hlinkshowjump?jump=nextslide"/>
          </p:cNvPr>
          <p:cNvPicPr/>
          <p:nvPr/>
        </p:nvPicPr>
        <p:blipFill>
          <a:blip r:embed="rId9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1" dur="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2" dur="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0" dur="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1" dur="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4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ff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019920" y="4495680"/>
            <a:ext cx="3047760" cy="1065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" action="ppaction://hlinkshowjump?jump=nextslide"/>
          </p:cNvPr>
          <p:cNvPicPr/>
          <p:nvPr/>
        </p:nvPicPr>
        <p:blipFill>
          <a:blip r:embed="rId3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sp>
        <p:nvSpPr>
          <p:cNvPr id="81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loud"/>
          <p:cNvSpPr/>
          <p:nvPr/>
        </p:nvSpPr>
        <p:spPr>
          <a:xfrm>
            <a:off x="7467480" y="91440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88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93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96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children play gam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1880" y="12952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0" y="44197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th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3200400" y="2095560"/>
            <a:ext cx="3076560" cy="4762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5" dur="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6" dur="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4" dur="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5" dur="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ff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5880" y="4495680"/>
            <a:ext cx="2971800" cy="1065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sp>
        <p:nvSpPr>
          <p:cNvPr id="116" name="Cloud"/>
          <p:cNvSpPr/>
          <p:nvPr/>
        </p:nvSpPr>
        <p:spPr>
          <a:xfrm>
            <a:off x="5257800" y="220968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sp>
        <p:nvSpPr>
          <p:cNvPr id="118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loud"/>
          <p:cNvSpPr/>
          <p:nvPr/>
        </p:nvSpPr>
        <p:spPr>
          <a:xfrm>
            <a:off x="7467480" y="91440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25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130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133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Mary ride a b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1880" y="12952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44197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s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3200400" y="1981080"/>
            <a:ext cx="3076560" cy="4762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" action="ppaction://hlinkshowjump?jump=nextslide"/>
          </p:cNvPr>
          <p:cNvPicPr/>
          <p:nvPr/>
        </p:nvPicPr>
        <p:blipFill>
          <a:blip r:embed="rId9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5" dur="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6" dur="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94" dur="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5" dur="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8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9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ff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172200" y="4572000"/>
            <a:ext cx="2895480" cy="811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sp>
        <p:nvSpPr>
          <p:cNvPr id="156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loud"/>
          <p:cNvSpPr/>
          <p:nvPr/>
        </p:nvSpPr>
        <p:spPr>
          <a:xfrm>
            <a:off x="7467480" y="91440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63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168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171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Jack play the guit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381880" y="12952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62920" y="4495680"/>
            <a:ext cx="83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3200400" y="1981080"/>
            <a:ext cx="3076560" cy="47628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" action="ppaction://hlinkshowjump?jump=nextslide"/>
          </p:cNvPr>
          <p:cNvPicPr/>
          <p:nvPr/>
        </p:nvPicPr>
        <p:blipFill>
          <a:blip r:embed="rId9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87" dur="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88" dur="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5" dur="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6" dur="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7" dur="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ff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248520" y="4572000"/>
            <a:ext cx="2895480" cy="811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sp>
        <p:nvSpPr>
          <p:cNvPr id="191" name="Cloud"/>
          <p:cNvSpPr/>
          <p:nvPr/>
        </p:nvSpPr>
        <p:spPr>
          <a:xfrm>
            <a:off x="5257800" y="220968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loud"/>
          <p:cNvSpPr/>
          <p:nvPr/>
        </p:nvSpPr>
        <p:spPr>
          <a:xfrm>
            <a:off x="7467480" y="91440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99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204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207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an elephant s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81880" y="12952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4956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3200400" y="1981080"/>
            <a:ext cx="3076560" cy="476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7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>
            <a:hlinkClick r:id="" action="ppaction://hlinkshowjump?jump=nextslide"/>
          </p:cNvPr>
          <p:cNvPicPr/>
          <p:nvPr/>
        </p:nvPicPr>
        <p:blipFill>
          <a:blip r:embed="rId9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77" dur="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8" dur="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6" dur="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7" dur="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0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2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0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566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ff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172200" y="4495680"/>
            <a:ext cx="2971800" cy="10652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0"/>
            <a:ext cx="9144000" cy="4572000"/>
          </a:xfrm>
          <a:prstGeom prst="flowChartDocument">
            <a:avLst/>
          </a:prstGeom>
          <a:gradFill rotWithShape="0">
            <a:gsLst>
              <a:gs pos="0">
                <a:srgbClr val="a7e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2028960"/>
            <a:ext cx="4029120" cy="4829040"/>
          </a:xfrm>
          <a:prstGeom prst="rect">
            <a:avLst/>
          </a:prstGeom>
          <a:ln w="0">
            <a:noFill/>
          </a:ln>
        </p:spPr>
      </p:pic>
      <p:sp>
        <p:nvSpPr>
          <p:cNvPr id="229" name="Cloud"/>
          <p:cNvSpPr/>
          <p:nvPr/>
        </p:nvSpPr>
        <p:spPr>
          <a:xfrm>
            <a:off x="5257800" y="220968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loud"/>
          <p:cNvSpPr/>
          <p:nvPr/>
        </p:nvSpPr>
        <p:spPr>
          <a:xfrm>
            <a:off x="762120" y="228600"/>
            <a:ext cx="2438280" cy="16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loud"/>
          <p:cNvSpPr/>
          <p:nvPr/>
        </p:nvSpPr>
        <p:spPr>
          <a:xfrm>
            <a:off x="7467480" y="914400"/>
            <a:ext cx="1600200" cy="107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9e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20128200">
            <a:off x="1066320" y="25905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8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20728800">
            <a:off x="304920" y="3428640"/>
            <a:ext cx="121896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2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20256000">
            <a:off x="1142640" y="35049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67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295280" y="388620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43000" y="2971800"/>
            <a:ext cx="106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37" name=""/>
          <p:cNvSpPr/>
          <p:nvPr/>
        </p:nvSpPr>
        <p:spPr>
          <a:xfrm rot="1248600">
            <a:off x="2057040" y="35053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41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1009600">
            <a:off x="456840" y="434304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9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441972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540200">
            <a:off x="1981080" y="4419360"/>
            <a:ext cx="121932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840760" y="3557160"/>
            <a:ext cx="1897560" cy="1521360"/>
            <a:chOff x="2840760" y="3557160"/>
            <a:chExt cx="1897560" cy="1521360"/>
          </a:xfrm>
        </p:grpSpPr>
        <p:sp>
          <p:nvSpPr>
            <p:cNvPr id="242" name=""/>
            <p:cNvSpPr/>
            <p:nvPr/>
          </p:nvSpPr>
          <p:spPr>
            <a:xfrm flipH="1" rot="7075200">
              <a:off x="3382920" y="3458880"/>
              <a:ext cx="811800" cy="17172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63280" y="4182480"/>
              <a:ext cx="785160" cy="419040"/>
            </a:xfrm>
            <a:custGeom>
              <a:avLst/>
              <a:gdLst/>
              <a:ahLst/>
              <a:rect l="l" t="t" r="r" b="b"/>
              <a:pathLst>
                <a:path w="417" h="223">
                  <a:moveTo>
                    <a:pt x="417" y="223"/>
                  </a:moveTo>
                  <a:cubicBezTo>
                    <a:pt x="404" y="200"/>
                    <a:pt x="405" y="133"/>
                    <a:pt x="336" y="96"/>
                  </a:cubicBezTo>
                  <a:cubicBezTo>
                    <a:pt x="267" y="59"/>
                    <a:pt x="136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890600" y="3407400"/>
            <a:ext cx="1791000" cy="1579680"/>
            <a:chOff x="4890600" y="3407400"/>
            <a:chExt cx="1791000" cy="1579680"/>
          </a:xfrm>
        </p:grpSpPr>
        <p:sp>
          <p:nvSpPr>
            <p:cNvPr id="245" name=""/>
            <p:cNvSpPr/>
            <p:nvPr/>
          </p:nvSpPr>
          <p:spPr>
            <a:xfrm rot="14062200">
              <a:off x="5411520" y="3363840"/>
              <a:ext cx="748800" cy="1666800"/>
            </a:xfrm>
            <a:custGeom>
              <a:avLst/>
              <a:gdLst/>
              <a:ahLst/>
              <a:rect l="l" t="t" r="r" b="b"/>
              <a:pathLst>
                <a:path w="319" h="608">
                  <a:moveTo>
                    <a:pt x="160" y="0"/>
                  </a:moveTo>
                  <a:cubicBezTo>
                    <a:pt x="208" y="0"/>
                    <a:pt x="289" y="91"/>
                    <a:pt x="304" y="192"/>
                  </a:cubicBezTo>
                  <a:cubicBezTo>
                    <a:pt x="319" y="293"/>
                    <a:pt x="176" y="440"/>
                    <a:pt x="248" y="608"/>
                  </a:cubicBezTo>
                  <a:cubicBezTo>
                    <a:pt x="104" y="532"/>
                    <a:pt x="108" y="472"/>
                    <a:pt x="112" y="432"/>
                  </a:cubicBezTo>
                  <a:cubicBezTo>
                    <a:pt x="68" y="428"/>
                    <a:pt x="52" y="340"/>
                    <a:pt x="64" y="288"/>
                  </a:cubicBezTo>
                  <a:cubicBezTo>
                    <a:pt x="16" y="308"/>
                    <a:pt x="0" y="240"/>
                    <a:pt x="16" y="192"/>
                  </a:cubicBezTo>
                  <a:cubicBezTo>
                    <a:pt x="32" y="144"/>
                    <a:pt x="112" y="0"/>
                    <a:pt x="160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84440" y="3978720"/>
              <a:ext cx="597240" cy="563400"/>
            </a:xfrm>
            <a:custGeom>
              <a:avLst/>
              <a:gdLst/>
              <a:ahLst/>
              <a:rect l="l" t="t" r="r" b="b"/>
              <a:pathLst>
                <a:path w="344" h="325">
                  <a:moveTo>
                    <a:pt x="0" y="325"/>
                  </a:moveTo>
                  <a:cubicBezTo>
                    <a:pt x="11" y="297"/>
                    <a:pt x="8" y="221"/>
                    <a:pt x="65" y="167"/>
                  </a:cubicBezTo>
                  <a:cubicBezTo>
                    <a:pt x="122" y="113"/>
                    <a:pt x="286" y="35"/>
                    <a:pt x="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304920" y="1143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Can a frog jum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295280" y="476244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266920" y="3772080"/>
            <a:ext cx="857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133720" y="51055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762120" y="4838760"/>
            <a:ext cx="228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3733920"/>
            <a:ext cx="457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381880" y="129528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90720" y="763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-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67480" y="44956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8667720" cy="8859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8325000" y="6029280"/>
            <a:ext cx="819000" cy="828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3200400" y="1981080"/>
            <a:ext cx="3076560" cy="47628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6"/>
          <a:stretch/>
        </p:blipFill>
        <p:spPr>
          <a:xfrm>
            <a:off x="5715000" y="60199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2286000" y="5943600"/>
            <a:ext cx="1476360" cy="9144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8"/>
          <a:stretch/>
        </p:blipFill>
        <p:spPr>
          <a:xfrm>
            <a:off x="6858000" y="5715000"/>
            <a:ext cx="1257480" cy="9334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>
            <a:hlinkClick r:id="" action="ppaction://hlinkshowjump?jump=nextslide"/>
          </p:cNvPr>
          <p:cNvPicPr/>
          <p:nvPr/>
        </p:nvPicPr>
        <p:blipFill>
          <a:blip r:embed="rId9"/>
          <a:srcRect l="0" t="0" r="3632" b="0"/>
          <a:stretch/>
        </p:blipFill>
        <p:spPr>
          <a:xfrm>
            <a:off x="7124760" y="2351160"/>
            <a:ext cx="2019240" cy="2068560"/>
          </a:xfrm>
          <a:prstGeom prst="rect">
            <a:avLst/>
          </a:prstGeom>
          <a:ln w="0">
            <a:noFill/>
          </a:ln>
        </p:spPr>
      </p:pic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78487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0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1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2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3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4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5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6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9" dur="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00" dur="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1" dur="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4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5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0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6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2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5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656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1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662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22:59:05Z</dcterms:created>
  <dc:creator>Gabi Sandru</dc:creator>
  <dc:description/>
  <dc:language>en-US</dc:language>
  <cp:lastModifiedBy>Gabi Sandru</cp:lastModifiedBy>
  <dcterms:modified xsi:type="dcterms:W3CDTF">2010-02-05T23:39:23Z</dcterms:modified>
  <cp:revision>11</cp:revision>
  <dc:subject/>
  <dc:title>Slide 1</dc:title>
</cp:coreProperties>
</file>